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jpeg" ContentType="image/jpeg"/>
  <Override PartName="/ppt/media/image26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5.gif" ContentType="image/gif"/>
  <Override PartName="/ppt/media/image27.jpeg" ContentType="image/jpeg"/>
  <Override PartName="/ppt/media/image13.wmf" ContentType="image/x-wmf"/>
  <Override PartName="/ppt/media/image8.jpeg" ContentType="image/jpeg"/>
  <Override PartName="/ppt/media/image22.jpeg" ContentType="image/jpeg"/>
  <Override PartName="/ppt/media/image9.png" ContentType="image/png"/>
  <Override PartName="/ppt/media/image3.wmf" ContentType="image/x-wmf"/>
  <Override PartName="/ppt/media/image15.jpeg" ContentType="image/jpeg"/>
  <Override PartName="/ppt/media/image4.wmf" ContentType="image/x-wmf"/>
  <Override PartName="/ppt/media/image14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5E8-6342-43BF-B343-99E416AB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043-38EA-42AF-B5BF-9AD5376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B67-95E3-41D2-AAF0-B43B79C8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B08-BE56-4A5C-87D2-D216EAF2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0D377-F829-45A4-AE93-050CE0CD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C1EC-D7C3-4F52-86CC-234C6BE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7616-64B7-47A9-8FD2-12BD4227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23300-2F0D-4B94-81E8-933A717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F6EE-B06A-4D97-8B26-D2EEF1E3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B4D1-A651-482F-9092-3B1D01B0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FC33-F381-4818-81E6-B0E628D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F8D-51F9-4F7E-B404-ABD8A5AC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49071-108A-4729-8CA1-58DBD4B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A741-CE6F-46FD-8407-6CCB6D8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826EC-7F32-44A5-8B86-1B871D5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8E38F-393E-404E-AF7C-EFDADA53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0DFCF-596E-4FF6-98F4-62276A5F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C81B-23E4-4EE6-A8BC-B9506AA7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39F9-5DDF-4AC7-8FBC-22A53C3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1DB3-B384-4C6B-8467-26A2953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DDC9-BD0B-4BDA-89FE-ECEA967E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54A5-0A5C-4E1D-B6B2-E58F5A1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C0B-DBAA-4581-B1BF-CD5C816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801A-9A91-4343-B27A-AB5586E0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3E39-7306-4DCE-AFCC-0A77BAB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6D9C-9B09-48BF-9537-FFEAADF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F67C-7577-427C-A898-75D8E0E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79D8-8FB1-4306-81B7-67AEC767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FA27-2387-40BC-B78A-FE606D28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33B6-EC46-45C7-BF21-7573A42E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9E6BA-8245-4D51-9615-23F4D2B1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D5F63-6D95-4F4C-8674-5C86A63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7037D-A764-410A-A047-A9168B5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49A-AE83-4EFF-B234-92323886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E733C-8EF8-4D6B-99AD-461A6966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D3853-932D-45E3-95FB-39D09B0B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B44F5-790D-4175-B4A9-9E688AC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7230C-65A6-46A6-829F-53C90E0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3694E-5C89-471C-99EC-FEA3826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63522-0C78-47C0-8711-C35DAA4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E5B4B-970E-4D71-B3E6-F86A561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642BE-6EA7-4C1B-AFE8-3B64D148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4F9C8-A88A-40B7-B8D9-EE896929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CE212-4EF2-4229-A7D0-BA334882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C4B-4F36-4306-BAC5-589D680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07BCE-2B1D-4723-B349-C618FCBC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AD8ED-728D-484F-9EA4-30ED88DF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0CE7F-D22A-4411-BE11-930201AD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E4D3E-2385-4B77-8897-586FAC91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4CF74-96D0-4937-8AFC-8570BDA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209DB-7F43-4482-B0C1-1ECB3C9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56D53-D565-4CC6-9E3C-4F12DFF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D42F0-1043-48A1-B26C-A46A24D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ED340-46F7-4163-B504-5E30DCE8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683D2-3A9D-4213-A950-142ABD84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310-E66D-4936-9A04-1B935D3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AD24C-0B72-4545-80C7-2FB47889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ADA3F-FE92-44B0-A751-B3A74566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1E63C-FFC6-4B64-A466-3F11B49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2E19B-5122-4EB0-A57A-D71242A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9035C-D950-4E93-9C9A-49D5A5C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B4D2B-834A-48E1-98F4-527E4D4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4B629-4DBB-4EAE-AA6F-C3725453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E871C-C9B8-4B30-90E6-A89FF11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D87E1-1346-4C12-AE65-EFF11C1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6A507-BFAA-4F62-B2D0-5DAEC2D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EFF-53F5-452D-B5DE-B843D45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749B9-6865-453D-9B78-10644AE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D6F0F-8B34-4C8F-9181-E710CDA7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69EDE-97C8-41FA-BF48-66832805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97C-1B2C-436A-A2AF-4A8B558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E01-268E-41A3-AE42-F05909D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E0C8-97A3-4E5E-9518-CDACB8B586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65D-D04D-4AA1-B661-6F61C73DDE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6E17-717D-486E-808D-494E6EAFC41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347-6352-49F1-B293-332AC4A46D5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79F-8195-4C00-A300-5C629470F73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4AC-A9A8-449C-9701-16B972BF396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1680" y="3789000"/>
            <a:ext cx="6448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Улыбайся всем назло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чтоб сегодня повезло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682560" y="23760"/>
            <a:ext cx="7785000" cy="170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j0234294"/>
          <p:cNvPicPr/>
          <p:nvPr/>
        </p:nvPicPr>
        <p:blipFill>
          <a:blip r:embed="rId2"/>
          <a:stretch/>
        </p:blipFill>
        <p:spPr>
          <a:xfrm>
            <a:off x="0" y="0"/>
            <a:ext cx="2527200" cy="198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j0232580"/>
          <p:cNvPicPr/>
          <p:nvPr/>
        </p:nvPicPr>
        <p:blipFill>
          <a:blip r:embed="rId3"/>
          <a:stretch/>
        </p:blipFill>
        <p:spPr>
          <a:xfrm>
            <a:off x="6734160" y="0"/>
            <a:ext cx="2409840" cy="17161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" descr=""/>
          <p:cNvPicPr/>
          <p:nvPr/>
        </p:nvPicPr>
        <p:blipFill>
          <a:blip r:embed="rId4"/>
          <a:stretch/>
        </p:blipFill>
        <p:spPr>
          <a:xfrm>
            <a:off x="7034040" y="3789360"/>
            <a:ext cx="181008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474040" cy="10000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3887640" y="1268280"/>
            <a:ext cx="52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еб – 0,5 бу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баса – 0,200 к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 – 0,200 к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товл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езаем хлеб на лом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басу очищаем и нарезаем пласти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 нарезаем пласт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тарелку кладем хлеб, колбасу и сверху сы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ЯТНОГО АППЕТИТ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7" descr="Gift-Medium-Photo409"/>
          <p:cNvPicPr/>
          <p:nvPr/>
        </p:nvPicPr>
        <p:blipFill>
          <a:blip r:embed="rId2"/>
          <a:stretch/>
        </p:blipFill>
        <p:spPr>
          <a:xfrm>
            <a:off x="14400" y="22590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й нож и /или пилка для нарезки хлеб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ска для нарезки хлеб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й нож  и доска для колбасы, сыр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j0350328"/>
          <p:cNvPicPr/>
          <p:nvPr/>
        </p:nvPicPr>
        <p:blipFill>
          <a:blip r:embed="rId2"/>
          <a:stretch/>
        </p:blipFill>
        <p:spPr>
          <a:xfrm>
            <a:off x="7338960" y="5592600"/>
            <a:ext cx="18050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 узнала…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 научилась…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не пригодится это ….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open.az/uploads/posts/2010-12/1292048342_31560340709984.jpg"/>
          <p:cNvPicPr/>
          <p:nvPr/>
        </p:nvPicPr>
        <p:blipFill>
          <a:blip r:embed="rId1"/>
          <a:stretch/>
        </p:blipFill>
        <p:spPr>
          <a:xfrm>
            <a:off x="1763640" y="1341360"/>
            <a:ext cx="579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usiter.com/uploads/20120417/baton+hlebobulochnie+izdeliya+hleb+23866535011.jpg"/>
          <p:cNvPicPr/>
          <p:nvPr/>
        </p:nvPicPr>
        <p:blipFill>
          <a:blip r:embed="rId2"/>
          <a:srcRect l="0" t="0" r="28455" b="0"/>
          <a:stretch/>
        </p:blipFill>
        <p:spPr>
          <a:xfrm>
            <a:off x="1339920" y="1773360"/>
            <a:ext cx="66168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3789360"/>
            <a:ext cx="814716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рячее блюдо (каша, макароны, варёное яйцо, глазунья и т.п.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терброд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рячий напиток (чай, кофе, какао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281160" y="725400"/>
            <a:ext cx="8424720" cy="183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j0232101"/>
          <p:cNvPicPr/>
          <p:nvPr/>
        </p:nvPicPr>
        <p:blipFill>
          <a:blip r:embed="rId2"/>
          <a:stretch/>
        </p:blipFill>
        <p:spPr>
          <a:xfrm>
            <a:off x="0" y="0"/>
            <a:ext cx="1535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611280" y="98100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ют все на общий результа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руппе должен быть ответственны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ё несогласие высказывай вежлив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не понял, переспро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474040" cy="3376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j0232580"/>
          <p:cNvPicPr/>
          <p:nvPr/>
        </p:nvPicPr>
        <p:blipFill>
          <a:blip r:embed="rId2"/>
          <a:stretch/>
        </p:blipFill>
        <p:spPr>
          <a:xfrm>
            <a:off x="6588000" y="2917800"/>
            <a:ext cx="2409840" cy="1716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j0233355"/>
          <p:cNvPicPr/>
          <p:nvPr/>
        </p:nvPicPr>
        <p:blipFill>
          <a:blip r:embed="rId3"/>
          <a:stretch/>
        </p:blipFill>
        <p:spPr>
          <a:xfrm>
            <a:off x="1258920" y="3905280"/>
            <a:ext cx="20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 rot="10998000">
            <a:off x="1213920" y="6425280"/>
            <a:ext cx="612000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s://im3-tub-ru.yandex.net/i?id=9e6227e3842a76dead79bc9e1a700c1a&amp;n=33&amp;h=215&amp;w=269"/>
          <p:cNvPicPr/>
          <p:nvPr/>
        </p:nvPicPr>
        <p:blipFill>
          <a:blip r:embed="rId2"/>
          <a:stretch/>
        </p:blipFill>
        <p:spPr>
          <a:xfrm>
            <a:off x="460440" y="1738440"/>
            <a:ext cx="1923840" cy="1536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http://www.funlib.ru/cimg/2014/101618/1449087"/>
          <p:cNvPicPr/>
          <p:nvPr/>
        </p:nvPicPr>
        <p:blipFill>
          <a:blip r:embed="rId3"/>
          <a:stretch/>
        </p:blipFill>
        <p:spPr>
          <a:xfrm>
            <a:off x="3106800" y="1738440"/>
            <a:ext cx="233532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https://im0-tub-ru.yandex.net/i?id=c728d36e3ed734c282aee37648285c3d&amp;n=33&amp;h=215&amp;w=323"/>
          <p:cNvPicPr/>
          <p:nvPr/>
        </p:nvPicPr>
        <p:blipFill>
          <a:blip r:embed="rId4"/>
          <a:stretch/>
        </p:blipFill>
        <p:spPr>
          <a:xfrm>
            <a:off x="6048360" y="1400040"/>
            <a:ext cx="2182680" cy="1452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http://www.delinform.ru/3kolonka/images/p1577.jpg"/>
          <p:cNvPicPr/>
          <p:nvPr/>
        </p:nvPicPr>
        <p:blipFill>
          <a:blip r:embed="rId5"/>
          <a:stretch/>
        </p:blipFill>
        <p:spPr>
          <a:xfrm>
            <a:off x="477720" y="4076640"/>
            <a:ext cx="2359080" cy="1770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http://tips-ua.com/img/4/6/465e36180650c91eb661dfb5f1801cdb.jpeg"/>
          <p:cNvPicPr/>
          <p:nvPr/>
        </p:nvPicPr>
        <p:blipFill>
          <a:blip r:embed="rId6"/>
          <a:stretch/>
        </p:blipFill>
        <p:spPr>
          <a:xfrm>
            <a:off x="3492360" y="3860640"/>
            <a:ext cx="2313000" cy="1635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7" descr="https://im0-tub-ru.yandex.net/i?id=6f0311d2c5a7e05e59a6e02e4b57e7d6&amp;n=33&amp;h=215&amp;w=215"/>
          <p:cNvPicPr/>
          <p:nvPr/>
        </p:nvPicPr>
        <p:blipFill>
          <a:blip r:embed="rId7"/>
          <a:stretch/>
        </p:blipFill>
        <p:spPr>
          <a:xfrm>
            <a:off x="6564240" y="3213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24000" y="19573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 способу приготовле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росты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когда используется один вид продукт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Сложны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- когда используется несколько видов продукт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Открыты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когда продукт виден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Закрыты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сандвичи)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когда продукт не виден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Закусочны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канапе)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отличаются меньшим разме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j0233355"/>
          <p:cNvPicPr/>
          <p:nvPr/>
        </p:nvPicPr>
        <p:blipFill>
          <a:blip r:embed="rId2"/>
          <a:stretch/>
        </p:blipFill>
        <p:spPr>
          <a:xfrm>
            <a:off x="7093080" y="1074600"/>
            <a:ext cx="2050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://www.passion.ru/sites/passion.ru/files/imagecache/img460x313/content/images/s_article/63088/bodyimages/buterbrod_3.jpg"/>
          <p:cNvPicPr/>
          <p:nvPr/>
        </p:nvPicPr>
        <p:blipFill>
          <a:blip r:embed="rId1"/>
          <a:stretch/>
        </p:blipFill>
        <p:spPr>
          <a:xfrm>
            <a:off x="422280" y="582480"/>
            <a:ext cx="2347920" cy="1684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media.englishrussia.com/112012/rusapp/rusappet001-14.jpg"/>
          <p:cNvPicPr/>
          <p:nvPr/>
        </p:nvPicPr>
        <p:blipFill>
          <a:blip r:embed="rId2"/>
          <a:stretch/>
        </p:blipFill>
        <p:spPr>
          <a:xfrm>
            <a:off x="6523200" y="582480"/>
            <a:ext cx="2392200" cy="1801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rrnews.ru/sites/default/files/news/03-2014/kolbasa_i_syr.jpg"/>
          <p:cNvPicPr/>
          <p:nvPr/>
        </p:nvPicPr>
        <p:blipFill>
          <a:blip r:embed="rId3"/>
          <a:stretch/>
        </p:blipFill>
        <p:spPr>
          <a:xfrm>
            <a:off x="777960" y="4935600"/>
            <a:ext cx="2390760" cy="179208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8"/>
          <p:cNvSpPr/>
          <p:nvPr/>
        </p:nvSpPr>
        <p:spPr>
          <a:xfrm>
            <a:off x="149400" y="-144360"/>
            <a:ext cx="306864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12" descr="http://www.ludads.org.ua/oboi/byter/big/20.jpg"/>
          <p:cNvPicPr/>
          <p:nvPr/>
        </p:nvPicPr>
        <p:blipFill>
          <a:blip r:embed="rId4"/>
          <a:stretch/>
        </p:blipFill>
        <p:spPr>
          <a:xfrm>
            <a:off x="460440" y="2762280"/>
            <a:ext cx="2446200" cy="183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http://www.diy.ru/media/st/32/70/da/25db82574f89b3ef06737a9041c7cc3907.jpg"/>
          <p:cNvPicPr/>
          <p:nvPr/>
        </p:nvPicPr>
        <p:blipFill>
          <a:blip r:embed="rId5"/>
          <a:stretch/>
        </p:blipFill>
        <p:spPr>
          <a:xfrm>
            <a:off x="3218040" y="523800"/>
            <a:ext cx="3000240" cy="223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рецепт Бутерброд с красной рыбой // рецепты с фотографиями"/>
          <p:cNvPicPr/>
          <p:nvPr/>
        </p:nvPicPr>
        <p:blipFill>
          <a:blip r:embed="rId6"/>
          <a:stretch/>
        </p:blipFill>
        <p:spPr>
          <a:xfrm>
            <a:off x="6230880" y="3246480"/>
            <a:ext cx="2741760" cy="1868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pes"/>
          <p:cNvPicPr/>
          <p:nvPr/>
        </p:nvPicPr>
        <p:blipFill>
          <a:blip r:embed="rId7"/>
          <a:stretch/>
        </p:blipFill>
        <p:spPr>
          <a:xfrm>
            <a:off x="3635280" y="3703680"/>
            <a:ext cx="2355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2:04:42Z</dcterms:created>
  <dc:creator>Учитель</dc:creator>
  <dc:description/>
  <dc:language>en-US</dc:language>
  <cp:lastModifiedBy>User</cp:lastModifiedBy>
  <dcterms:modified xsi:type="dcterms:W3CDTF">2016-03-16T13:43:58Z</dcterms:modified>
  <cp:revision>80</cp:revision>
  <dc:subject/>
  <dc:title>КУЛИНАРИЯ 5 класс</dc:title>
</cp:coreProperties>
</file>